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E7311-8387-47EC-86E6-D1FF4956283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382B0-E365-4813-B831-DBBF0733B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4689A-E2E5-4925-B88A-A56CD61D3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B259A-F059-4F2F-A608-CC182EF51D3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81FF8-8C55-4036-A0B5-2EB734E5C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DC195-ED78-4D55-933C-C8189114B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C7401-91E1-4A17-A4DC-137AFBD0C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CE719-693B-48ED-9F3A-55B1D9A1D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23745-7C10-441A-8F1E-6A879CDD9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703B2-0DEE-4A44-8FE2-89ECD2B6C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4A787-8747-4C49-B62D-D14C0BF19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452CB-444D-4274-AED3-9EC8010C2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4002D-FE6D-473F-B5DF-75A29752BCF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000"/>
            <a:ext cx="9144000" cy="2168640"/>
            <a:chOff x="0" y="4689000"/>
            <a:chExt cx="9144000" cy="216864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51160"/>
              <a:ext cx="9115560" cy="1806480"/>
              <a:chOff x="28440" y="5051160"/>
              <a:chExt cx="9115560" cy="180648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51160"/>
                <a:ext cx="9115560" cy="1806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5116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000"/>
              <a:ext cx="9097920" cy="402840"/>
              <a:chOff x="0" y="468900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8280"/>
                <a:ext cx="9097920" cy="34524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200"/>
                <a:ext cx="9097920" cy="35928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2640" y="2286000"/>
            <a:ext cx="6715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三十一章  泌尿系统肿瘤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1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肾癌，拟行根治性肾切除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术后可能出现哪些并发症？②如何观察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失调（低于机体需要量）  与长期血尿、癌肿消耗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焦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恐惧  与对癌症和手术的恐惧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感染、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支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与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康复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药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定期复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膀胱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umor of bladder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泌尿系统最常见的肿瘤。好发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男性多于女性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膀胱癌的危险因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致癌物质的长期接触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吸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胱慢性感染与异物长期刺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长期大量服用镇痛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1-2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发现全程无痛肉眼血尿伴血凝块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周。吸烟史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年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支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日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膀胱镜检查：膀胱三角区有一直径约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c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的凸出物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尿：是膀胱癌最常见和最早出现的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刺激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转移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数患者无明显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镜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诊断膀胱癌最重要的检查手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脱落细胞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21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肾癌、膀胱癌的病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概括肾癌、膀胱癌的临床特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阐述肾癌、膀胱癌的处理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泌尿系统肿瘤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和性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吸烟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工作环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相关疾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相关治疗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经尿道膀胱肿瘤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ransurethral resection of bladder tumor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URB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：是所有膀胱肿瘤治疗的首选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部分切除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治性膀胱全切术：是膀胱浸润性癌的基本治疗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学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化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灌注化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放射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恐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焦虑  与担心肿瘤预后不良、害怕手术、担心如厕方式改变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失调（低于机体需要量）  与长期血尿、癌肿消耗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身体意象紊乱  与膀胱全切术后尿流改道、存在造瘘口或引流装置以及不能主动排尿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出血、感染、尿瘘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1-2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膀胱癌，拟行根治性膀胱全切术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壁造瘘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手术后，面对排尿方式的改变应如何做好护理工作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56760" y="12855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与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造瘘患者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与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冲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代膀胱冲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造瘘口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灌注化疗的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康复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自我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原位新膀胱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定期复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肾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 可能与吸烟、肥胖、职业接触、遗传因素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 典型表现为血尿、疼痛和肿块，被称为肾癌三联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以手术治疗为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 术前护理应注意心理护理和营养支持护理；术后护理包括安置适当体位、病情观察、饮食与营养、引流管的护理、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膀胱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 可能与职业接触、吸烟、膀胱慢性感染、异物长期刺激、长期大量服用镇痛药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 典型表现为全程无痛肉眼血尿，血尿常间歇出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以手术治疗为主，辅以化疗和放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膀胱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包括心理护理、饮食与营养、肠道准备、造瘘患者准备。术后护理包括观察病情、饮食与营养、膀胱冲洗、代膀胱冲洗、造瘘口护理、引流管的护理、并发症的观察与护理和膀胱灌注化疗的护理。另外，还要做好健康教育促进患者适应术后生活、防止癌症复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肾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enal carcinom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又称肾腺癌或肾细胞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enal cell carcinoma, RC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。占成人恶性肿瘤的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发病高峰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男女之比为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∶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无明显的种族差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1-1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血尿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周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 36.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86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／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 1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／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P 15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／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5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身高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68c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体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8k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腹壁软，无压痛、反跳痛，肠鸣音正常，无移动性浊音，余未见异常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：右肾上极有一个直径约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c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的占位性病变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尿、疼痛和肿块：即肾癌三联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副癌综合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转移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肾增大，消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404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普查肾肿瘤的首选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肾肿瘤最可靠的影像学诊断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</a:rPr>
              <a:t>年龄和性别、职业、吸烟史、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饮食和肥胖、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</a:rPr>
              <a:t>家族史、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相关疾病史、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</a:rPr>
              <a:t>用药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治性肾切除术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肾癌最主要的治疗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部分肾切除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免疫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0:58:01Z</dcterms:modified>
  <cp:revision>112</cp:revision>
  <dc:subject/>
  <dc:title>内科护理学</dc:title>
</cp:coreProperties>
</file>